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C7B-D833-4FB1-BD4E-05B857A4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378-F7FB-4BE0-B8D3-4D6B3DA7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E76-E610-4DA3-8CEE-BBF804A8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7F6-B3A4-48A7-8187-6003E59C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9451-ADBB-4736-9323-1CEF392B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60A4-F1DF-47D6-A561-016927D9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1A81-3BFF-443A-B88E-9E6B9C2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1A29-F042-4E66-BD99-46EEF091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210A-5C0C-4959-81BC-2B66790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95EC-15F6-47DF-ACEB-6F7C292F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B69A-B5AC-4F78-9203-F9A62FF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65A-13F4-4955-A5D7-CE4B4A8F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76BE-F6DC-4D5B-99B7-AB438307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AA24-EF73-4ABD-8B0D-5E11B0F0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FA4A-0574-457C-9B72-D24C6BB1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3490-60AE-4EF3-8C39-EBCB2180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E9C5-14B8-4063-9DF0-AA1A1060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A37-23D3-4735-BD2D-62B6ED2D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4FC-3F16-434C-B5C5-0FAEE1D5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135-8F26-4F13-AE6D-FF4DA9B4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80E-1F04-41C6-8644-33EE2A9E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553-DF3D-47FD-A5D0-CBB2CBD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33D-C23C-47FA-8F6D-F960B4B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B68-8818-4DD4-A152-5850D71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6CFB-DD17-43AD-AB58-DE1DCCA98A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C19-86DE-4D79-8B48-C0F1F75B8B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ib.uconn.edu/help/askHomer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b.uconn.edu/using/tutorials/" TargetMode="External"/><Relationship Id="rId2" Type="http://schemas.openxmlformats.org/officeDocument/2006/relationships/hyperlink" Target="http://www.lib.uconn.edu/using/finding/guides/elecref.htm" TargetMode="External"/><Relationship Id="rId3" Type="http://schemas.openxmlformats.org/officeDocument/2006/relationships/hyperlink" Target="http://homerweb.lib.uconn.edu/" TargetMode="External"/><Relationship Id="rId4" Type="http://schemas.openxmlformats.org/officeDocument/2006/relationships/hyperlink" Target="http://www.lib.uconn.edu/online/ejournals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ag2002547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sda.gov/" TargetMode="External"/><Relationship Id="rId2" Type="http://schemas.openxmlformats.org/officeDocument/2006/relationships/hyperlink" Target="http://www.ofrf.org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conn.edu/" TargetMode="External"/><Relationship Id="rId2" Type="http://schemas.openxmlformats.org/officeDocument/2006/relationships/hyperlink" Target="http://www.lib.uconn.edu/" TargetMode="External"/><Relationship Id="rId3" Type="http://schemas.openxmlformats.org/officeDocument/2006/relationships/hyperlink" Target="http://classguides.lib.uconn.edu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.C.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are stumped about something, 10 a.m. to 5 p.m., there is help in an online resource called “askHomer Live” which provides you the ability to ask reference questions and get answers in “real time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 to 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help/askHo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LICK on the Link to your UCONN Specialty Reference Librarian (highlighted on another pa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OME TO YOUR VERY OWN HIGH SCHOOL LIBRARIAN: Mrs. Fitzgera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f you want tutorials for Library or UCONN Resources in general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Library Introduction/Orientation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using/tutorials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 to Electronic Information Resource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/using/finding/guides/elecref.htm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mer, the online Catalog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homerweb.lib.uconn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atabase Locator: www.lib.uconn.edu/online/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Journals – Locate Electronic Journal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lib.uconn.edu/online/ejour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MPLE: ENVIRO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ticle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merica’s Food Crisis and How to Fix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ll text article online can be found in ICON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erica's food crisis and how to fix it. (The Well; Cover Story; Environment ... 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 August 31, 2009 ; Cover story ; Time   ; 174 ; 8 ; 30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tation information availab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on searching ICONN found rebuttal artic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on Searching UCONN resources found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7800" y="22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IALTY ENVIRONMENTAL SCIENCE – REFERENCE LIBRARIAN with specialt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098720"/>
            <a:ext cx="79250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5480" y="195120"/>
            <a:ext cx="829584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ith Links to Environment Resour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8664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53452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7&amp;prodId=IPS&amp;docId=A206170769&amp;userGroupName=s1461&amp;version=1.0&amp;source=gale&amp;infoPage=infoMark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al Online features to hel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772400" cy="376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95480" y="1752480"/>
            <a:ext cx="62485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and Technology Services through UCON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ID: eight digit network identif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sword:   (you create after entering your activation code for the first 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buttal article(s) may be f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 Time Magazine's Cover Article Draw Pork Industry Rebuttal. 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 August 31, 2009 ; Article ; National Hog Farmer (Online Exclusive)  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People mentioned in arti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80720" y="333720"/>
            <a:ext cx="847692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both through ICONN and UCON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895320"/>
            <a:ext cx="8677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62080" y="186120"/>
            <a:ext cx="83142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OD SUPPLY and ENVIRON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7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0440" y="190800"/>
            <a:ext cx="838116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676440"/>
            <a:ext cx="882036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Re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ations web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vernment group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DA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usda.gov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r other group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CSUSA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www.ucsusa.org/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foo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_and_agriculture/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r Organic Farming Research Foundation 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OFRF.OR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562720" y="1828800"/>
            <a:ext cx="3130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S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849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EENR DATABASE AD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EN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25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oks found through Online Catalog called HOMER and WORLDCA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s &amp; Aerial Photo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s, CDs, DVDs, Music Scores/Recor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y UCONN Library Home P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lib.uconn.ed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simple or advance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de on Books, Journals or Med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o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borrow from UCONN, do not let anything become overdue, it will be a $95. charge for anything over 28 days and your UCONN account will be flagg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also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CONN WEBSIT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ONN HOME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brary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 Guides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classguides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 to Specialized Resourc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HOMER, Book catal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Articles an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12-05-02T16:24:28Z</dcterms:modified>
  <cp:revision>13</cp:revision>
  <dc:subject/>
  <dc:title>Library Orientation</dc:title>
</cp:coreProperties>
</file>